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5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1620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6904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6336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1620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6904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63600" y="74160"/>
            <a:ext cx="7664400" cy="39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6">
            <a:hlinkClick r:id="" action="ppaction://hlinkshowjump?jump=lastslide"/>
          </p:cNvPr>
          <p:cNvSpPr/>
          <p:nvPr/>
        </p:nvSpPr>
        <p:spPr>
          <a:xfrm>
            <a:off x="8933040" y="0"/>
            <a:ext cx="2109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1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1207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5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2098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b8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85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7640" indent="-1666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22392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YOURURL/silvacarbon" TargetMode="Externa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ode.google.com/p/hybridfox/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199.26.254.151:8773/services/Eucalyptus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199.26.254.154:8443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b81"/>
                </a:solidFill>
                <a:latin typeface="Arial"/>
              </a:rPr>
              <a:t>Hands-on Experience</a:t>
            </a: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85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OS 5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5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ud Softwar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calyptus 2.0.3 Open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5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pervisor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V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5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ud Managed Interfac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bridf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5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o Projec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GS-GMU Silvacarbon Por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5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b81"/>
                </a:solidFill>
                <a:latin typeface="Arial"/>
              </a:rPr>
              <a:t>3. Eucalyptus Usage</a:t>
            </a: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“Keypair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KeyPairs tab in Hybridf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Keypair u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 name: YOUR_KEYPAIR_NAME 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ifferent host choose different name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e the Keyp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Screen shot 2012-06-14 at 1.28.24 AM.png"/>
          <p:cNvPicPr/>
          <p:nvPr/>
        </p:nvPicPr>
        <p:blipFill>
          <a:blip r:embed="rId1"/>
          <a:stretch/>
        </p:blipFill>
        <p:spPr>
          <a:xfrm>
            <a:off x="4672080" y="1954080"/>
            <a:ext cx="546120" cy="381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Screen shot 2013-01-06 at 12.08.29 PM.png"/>
          <p:cNvPicPr/>
          <p:nvPr/>
        </p:nvPicPr>
        <p:blipFill>
          <a:blip r:embed="rId2"/>
          <a:stretch/>
        </p:blipFill>
        <p:spPr>
          <a:xfrm>
            <a:off x="3035160" y="3986280"/>
            <a:ext cx="306072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“Images” tab in Hybridf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" descr="Screen shot 2012-06-14 at 3.32.35 PM.png"/>
          <p:cNvPicPr/>
          <p:nvPr/>
        </p:nvPicPr>
        <p:blipFill>
          <a:blip r:embed="rId1"/>
          <a:stretch/>
        </p:blipFill>
        <p:spPr>
          <a:xfrm>
            <a:off x="345960" y="1725480"/>
            <a:ext cx="8105760" cy="513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Inst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ose Imag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: emi-491719A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ifest: silvacarbon.kvm.v1/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" descr="Screen shot 2012-06-14 at 3.31.33 PM.png"/>
          <p:cNvPicPr/>
          <p:nvPr/>
        </p:nvPicPr>
        <p:blipFill>
          <a:blip r:embed="rId1"/>
          <a:stretch/>
        </p:blipFill>
        <p:spPr>
          <a:xfrm>
            <a:off x="0" y="2705040"/>
            <a:ext cx="9144000" cy="402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pic>
        <p:nvPicPr>
          <p:cNvPr id="80" name="Content Placeholder 5" descr="Screen shot 2012-06-14 at 1.38.44 AM.png"/>
          <p:cNvPicPr/>
          <p:nvPr/>
        </p:nvPicPr>
        <p:blipFill>
          <a:blip r:embed="rId1"/>
          <a:srcRect l="0" t="12983" r="0" b="12983"/>
          <a:stretch/>
        </p:blipFill>
        <p:spPr>
          <a:xfrm>
            <a:off x="963720" y="1290600"/>
            <a:ext cx="7845480" cy="5137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6"/>
          <p:cNvSpPr/>
          <p:nvPr/>
        </p:nvSpPr>
        <p:spPr>
          <a:xfrm>
            <a:off x="1128600" y="2860560"/>
            <a:ext cx="4799160" cy="333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Box 7"/>
          <p:cNvSpPr/>
          <p:nvPr/>
        </p:nvSpPr>
        <p:spPr>
          <a:xfrm>
            <a:off x="6009840" y="2847960"/>
            <a:ext cx="227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elect Your Keyp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1127160" y="1960560"/>
            <a:ext cx="4798800" cy="333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Box 9"/>
          <p:cNvSpPr/>
          <p:nvPr/>
        </p:nvSpPr>
        <p:spPr>
          <a:xfrm>
            <a:off x="6036480" y="1935000"/>
            <a:ext cx="138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el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the Instance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“Instances” tab in Hybridf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" descr="Screen shot 2013-01-06 at 12.31.53 PM.png"/>
          <p:cNvPicPr/>
          <p:nvPr/>
        </p:nvPicPr>
        <p:blipFill>
          <a:blip r:embed="rId1"/>
          <a:stretch/>
        </p:blipFill>
        <p:spPr>
          <a:xfrm>
            <a:off x="360360" y="1954080"/>
            <a:ext cx="8423280" cy="474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it the esip testb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 the “Public DNS” from “Instances” tab as your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 </a:t>
            </a:r>
            <a:r>
              <a:rPr b="0" lang="en-US" sz="20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xxx.xxx.xxx.xxx/silvacarb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" descr="Screen shot 2012-06-14 at 3.29.45 PM.png"/>
          <p:cNvPicPr/>
          <p:nvPr/>
        </p:nvPicPr>
        <p:blipFill>
          <a:blip r:embed="rId2"/>
          <a:stretch/>
        </p:blipFill>
        <p:spPr>
          <a:xfrm>
            <a:off x="873000" y="2374920"/>
            <a:ext cx="7091640" cy="448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b81"/>
                </a:solidFill>
                <a:latin typeface="Arial"/>
              </a:rPr>
              <a:t>4. Silvacarbon Usage</a:t>
            </a: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1523880" y="776160"/>
            <a:ext cx="6181920" cy="595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b81"/>
                </a:solidFill>
                <a:latin typeface="Arial"/>
              </a:rPr>
              <a:t>View Information</a:t>
            </a: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85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 different ta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5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5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5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content in the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5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5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7"/>
          <a:stretch/>
        </p:blipFill>
        <p:spPr>
          <a:xfrm>
            <a:off x="1519200" y="1747800"/>
            <a:ext cx="4734000" cy="399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"/>
          <p:cNvPicPr/>
          <p:nvPr/>
        </p:nvPicPr>
        <p:blipFill>
          <a:blip r:embed="rId8"/>
          <a:stretch/>
        </p:blipFill>
        <p:spPr>
          <a:xfrm>
            <a:off x="2212920" y="2720880"/>
            <a:ext cx="438156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b81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941040" y="95256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85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Country: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Countries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5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Category: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bon DEM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under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vatio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5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wnload data by clic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4"/>
          <a:stretch/>
        </p:blipFill>
        <p:spPr>
          <a:xfrm>
            <a:off x="487440" y="1898640"/>
            <a:ext cx="6740280" cy="4754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"/>
          <p:cNvPicPr/>
          <p:nvPr/>
        </p:nvPicPr>
        <p:blipFill>
          <a:blip r:embed="rId5"/>
          <a:stretch/>
        </p:blipFill>
        <p:spPr>
          <a:xfrm>
            <a:off x="4352760" y="1670040"/>
            <a:ext cx="198720" cy="2127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"/>
          <p:cNvPicPr/>
          <p:nvPr/>
        </p:nvPicPr>
        <p:blipFill>
          <a:blip r:embed="rId6"/>
          <a:stretch/>
        </p:blipFill>
        <p:spPr>
          <a:xfrm>
            <a:off x="3564000" y="5477040"/>
            <a:ext cx="5580000" cy="121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b81"/>
                </a:solidFill>
                <a:latin typeface="Arial"/>
              </a:rPr>
              <a:t>Member Only Content</a:t>
            </a: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85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nd manage content after lo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2"/>
          <a:stretch/>
        </p:blipFill>
        <p:spPr>
          <a:xfrm>
            <a:off x="885960" y="1892160"/>
            <a:ext cx="7132680" cy="15051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"/>
          <p:cNvPicPr/>
          <p:nvPr/>
        </p:nvPicPr>
        <p:blipFill>
          <a:blip r:embed="rId3"/>
          <a:stretch/>
        </p:blipFill>
        <p:spPr>
          <a:xfrm>
            <a:off x="900000" y="3763800"/>
            <a:ext cx="7275600" cy="27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b81"/>
                </a:solidFill>
                <a:latin typeface="Arial"/>
              </a:rPr>
              <a:t>1. _x0018_Hybridfox Installation</a:t>
            </a: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wnload hybridfox add-on 1.7 fro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code.google.com/p/hybridfox/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Screen shot 2012-06-14 at 12.07.57 AM.png"/>
          <p:cNvPicPr/>
          <p:nvPr/>
        </p:nvPicPr>
        <p:blipFill>
          <a:blip r:embed="rId2"/>
          <a:stretch/>
        </p:blipFill>
        <p:spPr>
          <a:xfrm>
            <a:off x="1957320" y="2174760"/>
            <a:ext cx="5626080" cy="431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b81"/>
                </a:solidFill>
                <a:latin typeface="Arial"/>
              </a:rPr>
              <a:t>5. Login to the Instance</a:t>
            </a: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85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are using Mac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e the keypair and use SSH to lo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ss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i="1" lang="nl-NL" sz="2000" spc="-1" strike="noStrike">
                <a:solidFill>
                  <a:srgbClr val="ff0000"/>
                </a:solidFill>
                <a:latin typeface="Arial"/>
              </a:rPr>
              <a:t>YOURKEY_PATH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root@199.26.254.1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36440" y="2703600"/>
            <a:ext cx="8996400" cy="18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85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are using Windows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wnload Puttygen.exe and Putty.ex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ww.chiark.greenend.org.uk/~sgtatham/putty/download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puttygen to convert OpenSSH key (.pem) to private key (.pp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85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 OpenSSH key (.p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5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ose All Files (*.*) in file type drop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409760" y="2243160"/>
            <a:ext cx="6610320" cy="41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85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"Save Private Key" to save the key to .pp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868480" y="2532240"/>
            <a:ext cx="3876840" cy="376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85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Putty to login to the in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2043000" y="2073240"/>
            <a:ext cx="4419720" cy="42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85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.pp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Connection-&gt;SSH-&gt;Au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te the .pp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343240" y="2346480"/>
            <a:ext cx="445752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85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 the login name: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414440" y="2062080"/>
            <a:ext cx="6411960" cy="40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Firefox to open the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ybridfox-1.7.000177.x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Screen shot 2012-06-14 at 12.10.27 AM.png"/>
          <p:cNvPicPr/>
          <p:nvPr/>
        </p:nvPicPr>
        <p:blipFill>
          <a:blip r:embed="rId1"/>
          <a:stretch/>
        </p:blipFill>
        <p:spPr>
          <a:xfrm>
            <a:off x="1496880" y="1906560"/>
            <a:ext cx="6324840" cy="422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b81"/>
                </a:solidFill>
                <a:latin typeface="Arial"/>
              </a:rPr>
              <a:t>2. Hybridfox Setting</a:t>
            </a: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Hybridfox from tools-&gt;Hybridf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Screen shot 2012-06-14 at 12.13.57 AM.png"/>
          <p:cNvPicPr/>
          <p:nvPr/>
        </p:nvPicPr>
        <p:blipFill>
          <a:blip r:embed="rId1"/>
          <a:stretch/>
        </p:blipFill>
        <p:spPr>
          <a:xfrm>
            <a:off x="736560" y="1917720"/>
            <a:ext cx="765828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 Region Name: gmuclo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ose Signature Version: 2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ose Type: Eucalyp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 Endpoint URL: </a:t>
            </a:r>
            <a:r>
              <a:rPr b="0" lang="en-US" sz="20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199.26.254.154:8773/services/Eucalypt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Screen shot 2012-06-14 at 12.26.24 AM.png"/>
          <p:cNvPicPr/>
          <p:nvPr/>
        </p:nvPicPr>
        <p:blipFill>
          <a:blip r:embed="rId2"/>
          <a:stretch/>
        </p:blipFill>
        <p:spPr>
          <a:xfrm>
            <a:off x="2111400" y="3124080"/>
            <a:ext cx="5549760" cy="351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new Firfox Window to open gmu cloud ur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s://199.26.254.154:84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n with username: es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sword: test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" descr="Screen shot 2013-01-06 at 11.48.44 AM.png"/>
          <p:cNvPicPr/>
          <p:nvPr/>
        </p:nvPicPr>
        <p:blipFill>
          <a:blip r:embed="rId2"/>
          <a:stretch/>
        </p:blipFill>
        <p:spPr>
          <a:xfrm>
            <a:off x="2611440" y="2779560"/>
            <a:ext cx="4227480" cy="354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Credentials page, click on “show keys”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two keys he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4572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ry 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4572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ret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4572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" descr="Screen shot 2013-01-06 at 11.51.12 AM.png"/>
          <p:cNvPicPr/>
          <p:nvPr/>
        </p:nvPicPr>
        <p:blipFill>
          <a:blip r:embed="rId1"/>
          <a:stretch/>
        </p:blipFill>
        <p:spPr>
          <a:xfrm>
            <a:off x="952560" y="2678040"/>
            <a:ext cx="7369200" cy="415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the Credentials in Hybridf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“Credentials” in Hybridf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Screen shot 2012-06-14 at 1.18.57 AM.png"/>
          <p:cNvPicPr/>
          <p:nvPr/>
        </p:nvPicPr>
        <p:blipFill>
          <a:blip r:embed="rId1"/>
          <a:stretch/>
        </p:blipFill>
        <p:spPr>
          <a:xfrm>
            <a:off x="0" y="2563920"/>
            <a:ext cx="9144000" cy="18828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6"/>
          <p:cNvSpPr/>
          <p:nvPr/>
        </p:nvSpPr>
        <p:spPr>
          <a:xfrm>
            <a:off x="2612880" y="3416400"/>
            <a:ext cx="1123920" cy="37944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 Accout Name: es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 “Query ID” in step 6 to AWS Access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 “Secret Key” in step 6 to AWS Secret Access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Preferred Region: gmuclo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" descr="Screen shot 2013-01-06 at 12.01.35 PM.png"/>
          <p:cNvPicPr/>
          <p:nvPr/>
        </p:nvPicPr>
        <p:blipFill>
          <a:blip r:embed="rId1"/>
          <a:stretch/>
        </p:blipFill>
        <p:spPr>
          <a:xfrm>
            <a:off x="1536840" y="2905200"/>
            <a:ext cx="5867280" cy="3530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3T14:53:22Z</dcterms:created>
  <dc:creator>SAIC ISEM</dc:creator>
  <dc:description/>
  <dc:language>en-US</dc:language>
  <cp:lastModifiedBy>Kai Liu</cp:lastModifiedBy>
  <cp:lastPrinted>2012-06-15T19:10:33Z</cp:lastPrinted>
  <dcterms:modified xsi:type="dcterms:W3CDTF">2013-01-06T18:45:06Z</dcterms:modified>
  <cp:revision>48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18</vt:lpwstr>
  </property>
</Properties>
</file>